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468-DFA9-4AF9-AE85-9B0BA2DF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B19-1C42-4D93-8F51-D5274047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16B-9491-4860-AE73-9C57E31E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189-0929-459F-828F-66701BCC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3D7-BF68-4156-83EB-FD0D00F0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A7D-96E6-447A-91CB-450201A9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CDA-7459-44C5-9E1A-BDE937D9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8E0C-B5D5-4FBC-B952-B83F1D6E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E76-6E1A-4C1C-A888-431D08AD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387-324B-47B4-B3AE-2417CD23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5F7-6FB3-4CFA-B37A-B6BF0ABA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9D8-8BC8-48D0-AC3E-99AD8E4C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CB87-44DD-49EA-828B-95E6F4130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139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 Gothic"/>
              </a:rPr>
              <a:t>Multiplication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295280" y="1066680"/>
          <a:ext cx="6845400" cy="5105520"/>
        </p:xfrm>
        <a:graphic>
          <a:graphicData uri="http://schemas.openxmlformats.org/drawingml/2006/table">
            <a:tbl>
              <a:tblPr/>
              <a:tblGrid>
                <a:gridCol w="488880"/>
                <a:gridCol w="488880"/>
                <a:gridCol w="489240"/>
                <a:gridCol w="488880"/>
                <a:gridCol w="488880"/>
                <a:gridCol w="488880"/>
                <a:gridCol w="488880"/>
                <a:gridCol w="489240"/>
                <a:gridCol w="488880"/>
                <a:gridCol w="488880"/>
                <a:gridCol w="488880"/>
                <a:gridCol w="488880"/>
                <a:gridCol w="489240"/>
                <a:gridCol w="488880"/>
              </a:tblGrid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20:46:37Z</dcterms:created>
  <dc:creator>Administrator</dc:creator>
  <dc:description/>
  <cp:keywords/>
  <dc:language>en-US</dc:language>
  <cp:lastModifiedBy>srsd</cp:lastModifiedBy>
  <dcterms:modified xsi:type="dcterms:W3CDTF">2009-12-11T18:23:20Z</dcterms:modified>
  <cp:revision>1</cp:revision>
  <dc:subject/>
  <dc:title>Multiplication Tab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900071033</vt:lpwstr>
  </property>
</Properties>
</file>